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EE48D-B70D-4980-9851-EE9DB6C0B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BFC106E-762B-47CE-8C3A-31C00DC23C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A071229-93D2-4BFC-8235-DA824544FF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EB462788-E0EC-4BBB-9901-842226A88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C72CDD-4C62-46DA-908C-E3ACF28FFD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0A4F5F2-2FDA-44BC-A48B-472B61660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E31A0DF-28FB-4645-9BD9-3C9EA218A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7C6AB2D-4D6C-4F73-87C5-5F840AC419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BE7D82A-A2F2-4CD6-87C0-F7CE944210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63585F6-E896-42EC-A18F-EF5A604EF4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F4EA3E8-42A8-4BCA-B5C5-4B67D90739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D95DE91-FC63-45CC-A895-D3EF88A14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83029B0-5671-4EA4-A6C2-B3E1D04F4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6FCEBA9-192D-432A-A459-418AA12FB3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AEC0C07-E695-4A60-A741-2F1230C91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EEB9FA4-D7DB-4B4A-A50F-CE7BCFDC4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F2A1028-36EE-4A8F-A9B1-46D59BA08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940B2D-55A5-4164-880F-73E30EAA57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D7DC957-4B55-4469-8E4B-06FACD67C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B9E9F64-771D-44D5-9C13-ADA2D66C6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3E6B24B-E314-4B29-86E9-4DDA9F1DEA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F533362-6B4D-4BAD-9D5B-8CD9BC3552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3703BCA-1B1E-417D-A14B-62512E481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3C8F73D-0B16-4FDC-AFD0-46F987018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3F58-20C4-4460-9097-D5AA5AE02DA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030B-05F9-4E57-A8DB-CC0019A7232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jpe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like living near a volcano?</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3357720"/>
            <a:ext cx="6147000" cy="2349360"/>
          </a:xfrm>
          <a:prstGeom prst="rect">
            <a:avLst/>
          </a:prstGeom>
          <a:noFill/>
          <a:ln w="0">
            <a:noFill/>
          </a:ln>
        </p:spPr>
        <p:txBody>
          <a:bodyPr lIns="90000" rIns="90000" tIns="46800" bIns="46800" anchor="t">
            <a:no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is it like most of the time?</a:t>
            </a:r>
            <a:endParaRPr b="1"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happens when it erup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25B5AA0-C413-4231-9611-BFA83B193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5" name="PlaceHolder 2"/>
          <p:cNvSpPr>
            <a:spLocks noGrp="1"/>
          </p:cNvSpPr>
          <p:nvPr>
            <p:ph/>
          </p:nvPr>
        </p:nvSpPr>
        <p:spPr>
          <a:xfrm>
            <a:off x="250560" y="692280"/>
            <a:ext cx="6049800" cy="597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olcanoes attract millions of visitors every year, for different reaso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an example of the wilder side of nature, there are few things that can beat seeing an erupting volcano blowing red hot ash and rock thousands of feet into the ai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e less active ones that are just puffing out steam and smoke are impressive sights and attract tourists from around th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round the volcano may be warm bathing lakes, hot springs, bubbling mud pools and steam vents. </a:t>
            </a:r>
            <a:endParaRPr b="0" lang="en-US" sz="2000" spc="-1" strike="noStrike">
              <a:solidFill>
                <a:srgbClr val="006699"/>
              </a:solidFill>
              <a:latin typeface="Comic Sans MS"/>
            </a:endParaRPr>
          </a:p>
          <a:p>
            <a:pPr marL="343080" indent="-343080">
              <a:lnSpc>
                <a:spcPct val="80000"/>
              </a:lnSpc>
              <a:spcBef>
                <a:spcPts val="400"/>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eysers are always popular tourist attractions, such as Old Faithful in the Yellowstone National Park, USA. Old Faithful is such a popular tourist feature that it even has its own 24 hour Old Faithful webcam.</a:t>
            </a:r>
            <a:r>
              <a:rPr b="0" lang="en-US" sz="1600" spc="-1" strike="noStrike">
                <a:solidFill>
                  <a:srgbClr val="006699"/>
                </a:solidFill>
                <a:latin typeface="Comic Sans MS"/>
              </a:rPr>
              <a:t> </a:t>
            </a:r>
            <a:endParaRPr b="0" lang="en-US" sz="1600" spc="-1" strike="noStrike">
              <a:solidFill>
                <a:srgbClr val="006699"/>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Comic Sans MS"/>
            </a:endParaRPr>
          </a:p>
        </p:txBody>
      </p:sp>
      <p:pic>
        <p:nvPicPr>
          <p:cNvPr id="186" name="" descr=""/>
          <p:cNvPicPr/>
          <p:nvPr/>
        </p:nvPicPr>
        <p:blipFill>
          <a:blip r:embed="rId6"/>
          <a:stretch/>
        </p:blipFill>
        <p:spPr>
          <a:xfrm>
            <a:off x="6372360" y="692280"/>
            <a:ext cx="2574720" cy="4114800"/>
          </a:xfrm>
          <a:prstGeom prst="rect">
            <a:avLst/>
          </a:prstGeom>
          <a:ln w="0">
            <a:noFill/>
          </a:ln>
        </p:spPr>
      </p:pic>
      <p:sp>
        <p:nvSpPr>
          <p:cNvPr id="187" name=""/>
          <p:cNvSpPr/>
          <p:nvPr/>
        </p:nvSpPr>
        <p:spPr>
          <a:xfrm>
            <a:off x="6443640" y="4941720"/>
            <a:ext cx="237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is one is in New Zealan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6A369C0-CDD5-4D04-9EC8-061594202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9"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celand markets itself as a land of fire and ice, attracting tourists with a mix of volcanoes and glaciers, often both in the same pla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ild, raw and barren volcanic landscapes also attract tourists who want to see what the early planet may have looked lik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ourism creates jobs in shops, restaurants, hotels and tourist centres / national park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cals economies can profit from volcanism throughout the year, whereas skiing, for example, has only a limited winter seas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Uganda, a country trying hard to increase its tourist industry, the volcanic region around Mt Elgon is being heavily promoted for it's landscape, huge waterfalls, wildlife, climbing and hiking and its remote 'get away from it all' loca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254473C-9809-4D70-A35C-5682640A8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Materials</a:t>
            </a:r>
            <a:endParaRPr b="0" lang="en-US" sz="4000" spc="-1" strike="noStrike">
              <a:solidFill>
                <a:srgbClr val="006666"/>
              </a:solidFill>
              <a:latin typeface="Comic Sans MS"/>
            </a:endParaRPr>
          </a:p>
        </p:txBody>
      </p:sp>
      <p:sp>
        <p:nvSpPr>
          <p:cNvPr id="191" name="PlaceHolder 2"/>
          <p:cNvSpPr>
            <a:spLocks noGrp="1"/>
          </p:cNvSpPr>
          <p:nvPr>
            <p:ph/>
          </p:nvPr>
        </p:nvSpPr>
        <p:spPr>
          <a:xfrm>
            <a:off x="250560" y="1052280"/>
            <a:ext cx="42368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locks of lava are used for building material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anite is a volcanic rock</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h is used in cement to build with.</a:t>
            </a:r>
            <a:endParaRPr b="0" lang="en-US" sz="2800" spc="-1" strike="noStrike">
              <a:solidFill>
                <a:srgbClr val="006699"/>
              </a:solidFill>
              <a:latin typeface="Comic Sans MS"/>
            </a:endParaRPr>
          </a:p>
        </p:txBody>
      </p:sp>
      <p:pic>
        <p:nvPicPr>
          <p:cNvPr id="192" name="" descr=""/>
          <p:cNvPicPr/>
          <p:nvPr/>
        </p:nvPicPr>
        <p:blipFill>
          <a:blip r:embed="rId4"/>
          <a:stretch/>
        </p:blipFill>
        <p:spPr>
          <a:xfrm>
            <a:off x="5594400" y="1125360"/>
            <a:ext cx="2865240" cy="4032360"/>
          </a:xfrm>
          <a:prstGeom prst="rect">
            <a:avLst/>
          </a:prstGeom>
          <a:ln w="0">
            <a:noFill/>
          </a:ln>
        </p:spPr>
      </p:pic>
      <p:sp>
        <p:nvSpPr>
          <p:cNvPr id="4" name="PlaceHolder 3"/>
          <p:cNvSpPr>
            <a:spLocks noGrp="1"/>
          </p:cNvSpPr>
          <p:nvPr>
            <p:ph type="sldNum" idx="1"/>
          </p:nvPr>
        </p:nvSpPr>
        <p:spPr/>
        <p:txBody>
          <a:bodyPr/>
          <a:p>
            <a:fld id="{5E29F1C5-F677-4A87-BB00-4A2BA3662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y stay there because there is nowhere else to go – it is home</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431720"/>
            <a:ext cx="8642160" cy="5165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nd is cheap in volcanic and earthquake zones. Some people are too poor to leave their home (especially in LEDCs) – also poor education does not explain why they should move further away</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ven when people can afford to leave the area they may be too attached to their homes to leave. Their families have been there for gener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re are so many people living in these dangerous areas, that it would difficult if not impossible to re-house them, especially as many areas that provide food for so many othe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E2A4972-CA8E-4F2C-B0C5-7AF4EA708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iving near a volcano can have its advantages, but how do you cope with the danger?</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ientists can often find clues about past eruptions by studying the deposits left behind. Areas affected by lava flows etc can be mapped, making disaster planning more effectiv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is type of long-range forecasting, scientists are becoming more and more skilled at spotting the warning signs of an erup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30CC542-FE77-48C0-8484-BF5B6F20F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rning Signs</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n eruption, magma moves into the area beneath the volcano and collects in a magma chamber, or reservo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comes closer to the surface, the magma releases gas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events can offer valuable clues about the likelihood of an erupt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the movement of magma produces small earthquakes and vibr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gma gathering in a chamber causes slight swelling of the volcano's slop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ases released near the volcano can be measured for changes in quantity and makeup.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6AB0DCA-BCAF-43DD-9FD2-8183A19393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Monitoring Method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number of tools can be used to record these warning sign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ismographs can detect small earthquake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tiltmeters and geodimeters can measure the subtle swelling of a volcano.</a:t>
            </a:r>
            <a:endParaRPr b="0" lang="en-US" sz="2800" spc="-1" strike="noStrike">
              <a:solidFill>
                <a:srgbClr val="006699"/>
              </a:solidFill>
              <a:latin typeface="Comic Sans MS"/>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pectrometers  can measure amounts of sulfur dioxide</a:t>
            </a:r>
            <a:endParaRPr b="0" lang="en-US" sz="2800" spc="-1" strike="noStrike">
              <a:solidFill>
                <a:srgbClr val="006699"/>
              </a:solidFill>
              <a:latin typeface="Comic Sans MS"/>
            </a:endParaRPr>
          </a:p>
          <a:p>
            <a:pPr lvl="1" marL="735480" indent="-28296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telltale gas that is released in increasing quantities before an eruption. </a:t>
            </a:r>
            <a:endParaRPr b="0" lang="en-US" sz="2400" spc="-1" strike="noStrike">
              <a:solidFill>
                <a:srgbClr val="006699"/>
              </a:solidFill>
              <a:latin typeface="Comic Sans MS"/>
            </a:endParaRPr>
          </a:p>
          <a:p>
            <a:pPr marL="339480" indent="-3394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Using these and other tools, it's possible to closely monitor activity at an awakening volcano. </a:t>
            </a:r>
            <a:endParaRPr b="0" lang="en-US" sz="2800" spc="-1" strike="noStrike">
              <a:solidFill>
                <a:srgbClr val="006699"/>
              </a:solidFill>
              <a:latin typeface="Comic Sans MS"/>
            </a:endParaRPr>
          </a:p>
          <a:p>
            <a:pPr marL="339480" indent="-3394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Volcanologists are becoming very skilled at predicting the likelihood of an eruption.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D82164C-6A5E-48E8-97C7-08EC11F6F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 it's very difficult to pinpoint exactly when an eruption will happ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ften, moving magma doesn't result in an eruption at all, but instead cools below the surf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nitoring potential eruptions is expensiv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 many volcanoes erupting only every few hundred or thousand years, it's not possible to monitor every sit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Volcanic eruptions don't occur without warning, however. If we set up monitoring devices, we should not be caught off guard by disastrous eruptio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700F939-9EF8-4FB5-AB4E-5B13201949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you are living in a volcanic zone? </a:t>
            </a:r>
            <a:endParaRPr b="1" lang="en-US" sz="4800" spc="-1" strike="noStrike">
              <a:solidFill>
                <a:srgbClr val="006666"/>
              </a:solidFill>
              <a:latin typeface="Comic Sans MS"/>
            </a:endParaRPr>
          </a:p>
        </p:txBody>
      </p:sp>
      <p:sp>
        <p:nvSpPr>
          <p:cNvPr id="20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you do to stay saf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F5E4B9A-F42F-48D1-A77D-0F263DF33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plan should include 4 parts</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I need to know and have ready in case an eruption should happe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if an eruption is predict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during an eruptio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after an erup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3699F7B-D03C-4B40-949E-9186F5D927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people live near volcanoe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first it may seem odd that people would want to live close to a volcano or any tectonic activity.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all, volcanoes have a nasty habit of exploding, discharging liquid rock, ash, poisonous gasses, red hot clouds of embers, and generally doing things that kill peopl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et, throughout history, people have deliberately chosen to risk all those hazards and live near them, even on the slopes of active volcanoes that have erupted within living memor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D84FAD7-F03D-4777-B159-00F19C67C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K – you live in a volcanic area</a:t>
            </a:r>
            <a:endParaRPr b="1" lang="en-US" sz="4800" spc="-1" strike="noStrike">
              <a:solidFill>
                <a:srgbClr val="006666"/>
              </a:solidFill>
              <a:latin typeface="Comic Sans MS"/>
            </a:endParaRPr>
          </a:p>
        </p:txBody>
      </p:sp>
      <p:sp>
        <p:nvSpPr>
          <p:cNvPr id="20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eed to know and have ready in case an eruption should happe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B56CF98-40ED-4BB2-A548-B69ADADBF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ggestions include</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arn about your community warning system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 prepared for these disasters that can be spawned by volcanoe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arthquakes, Flash floods, Landslides and mudflows, Thunderstorms, Tsunamis</a:t>
            </a:r>
            <a:endParaRPr b="0" lang="en-US" sz="18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ke evacuation plans. You want to get to high ground away from the eruption. Plan a route out and have a backup route in mi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evelop an emergency communication plan.</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n case family members are separated from one another during a volcanic eruption, have a plan for getting back together. Ask an out-of-state relative or friend to serve as the "family contact." Make sure everyone knows the name, address, and phone number of the contact person. </a:t>
            </a:r>
            <a:endParaRPr b="0" lang="en-US" sz="18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ave disaster supplies on hand.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lashlight and extra batteries, Portable, battery-operated radio and extra batteries, First aid kit and manual, Emergency food and water, Non-electric can opener, Essential medicine, Cash and credit cards, Sturdy shoes, A pair of goggles and a throw-away breathing mask for each member of the household. </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74216BBE-950A-4BBB-AFC8-E930BB6DC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549360"/>
            <a:ext cx="7056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volcano alert has been made</a:t>
            </a:r>
            <a:br>
              <a:rPr sz="4800"/>
            </a:br>
            <a:r>
              <a:rPr b="1" lang="en-US" sz="4800" spc="-1" strike="noStrike">
                <a:solidFill>
                  <a:srgbClr val="006666"/>
                </a:solidFill>
                <a:latin typeface="Comic Sans MS"/>
              </a:rPr>
              <a:t>TV and Radio are telling people to evacuate URGENTLY</a:t>
            </a:r>
            <a:endParaRPr b="1" lang="en-US" sz="4800" spc="-1" strike="noStrike">
              <a:solidFill>
                <a:srgbClr val="006666"/>
              </a:solidFill>
              <a:latin typeface="Comic Sans MS"/>
            </a:endParaRPr>
          </a:p>
        </p:txBody>
      </p:sp>
      <p:sp>
        <p:nvSpPr>
          <p:cNvPr id="212" name="PlaceHolder 2"/>
          <p:cNvSpPr>
            <a:spLocks noGrp="1"/>
          </p:cNvSpPr>
          <p:nvPr>
            <p:ph type="subTitle"/>
          </p:nvPr>
        </p:nvSpPr>
        <p:spPr>
          <a:xfrm>
            <a:off x="539640" y="4220640"/>
            <a:ext cx="8136000" cy="22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eruption could be any time soo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have a plan – but what could go wrong with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2E8A716-C0AC-4F18-B0DE-4B8C652D6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ideas</a:t>
            </a:r>
            <a:endParaRPr b="0" lang="en-US" sz="4000" spc="-1" strike="noStrike">
              <a:solidFill>
                <a:srgbClr val="006666"/>
              </a:solidFill>
              <a:latin typeface="Comic Sans MS"/>
            </a:endParaRPr>
          </a:p>
        </p:txBody>
      </p:sp>
      <p:sp>
        <p:nvSpPr>
          <p:cNvPr id="214"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it may seem safe to stay at home and wait out an eruption, doing so could be very dangerous. The rock debris from a volcano can break windows and set buildings on fire. Stay safe. Follow authorities' instructions and leave the area before the disaster begi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llow the evacuation order issued by authorities. - Avoid areas downwind of the volcan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udflows or Lahars : are powerful "rivers" of mud that can move faster than people can walk or run and  occur when rain falls through ash-carrying clouds or when rivers are dammed during an erup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you approach a bridge, first look upstream. If a mudflow is approaching or moving beneath the bridge, do not cross the bridge. The power of the mudflow can destroy a bridge very quickl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42F7511-2CF7-4591-B2B4-D84F0ADEF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02960"/>
            <a:ext cx="9036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eruption happens before you get away</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caught in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ose all windows, doors, and dampe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ut all machinery inside a garage or bar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ing animals and livestock into closed shelters.</a:t>
            </a:r>
            <a:endParaRPr b="0" lang="en-US" sz="20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rapped out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ek shelter indoo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in a rock fall, roll into a ball to protect hea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void low-lying area where poisonous gases can collect and flash floods can be most dangerou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near a stream, beware of mudflows.</a:t>
            </a:r>
            <a:endParaRPr b="0" lang="en-US" sz="2000" spc="-1" strike="noStrike">
              <a:solidFill>
                <a:srgbClr val="006699"/>
              </a:solidFill>
              <a:latin typeface="Comic Sans MS"/>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tect yourself: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long sleeved shirts and pant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goggles to protect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a dust-mask or hold a damp cloth over face to help breath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car or truck engines off.</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B8B07831-CF0B-458E-A743-427A103B3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fterwards</a:t>
            </a:r>
            <a:endParaRPr b="0" lang="en-US" sz="40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sten to a battery-powered radio or television for the latest emergency informa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tay away from volcanic ash fall.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outside: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ver your mouth and nose. A number of victims of the Mount St. Helens volcano died from inhaling ash.</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goggles to protect your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skin covered to avoid irritation or burns.</a:t>
            </a:r>
            <a:endParaRPr b="0" lang="en-US" sz="20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have a respiratory ailment, avoid contact with any amount of ash. Stay indoors until local health officials advise it is safe to go outsid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oid driving in heavy ash fall. Driving will stir up more ash that can clog engines and stall vehic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ear roofs of ash fall. Ash fall is very heavy and can cause buildings to collaps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2752C32-0821-4BC1-8E30-C3C75D5459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magine you are an advertising executive and you want to attract people to visit  or live on your volcano (you might like to use your volcano from last week?)</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a 3-slide PowerPoi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Explain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y it is really the one place they would like to come to</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 they will protected by monitor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 they can prepare to survive any disast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Keep it brief and punchy – this is an advert remember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Don’t let the font size go below size 24</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B11C0DB-2E6F-4894-8675-8A1C871EA0D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hose to live close to volcanoes because they felt that the advantages outweighed the disadvantag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volcanoes are perfectly safe for long periods in between eruptions, and those that do erupt more frequently are usually thought of, by the people who live there, as being predictab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about 500 million people live on or close to volcano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even have major cities close to active volcanoes. Popocatapetl is a volcanic mountain less than 50 miles from Mexico City in Mexico.</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short, the main things that attract people to live near active volcanoes are minerals, geothermal energy, fertile soils and touris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ets look at each one...</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F2E2D37-575E-45CF-BAA1-5A3F14A7E1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4357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nerals</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gna rising from deep inside                                          the earth contains a range of                                                mineral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rock cools, minerals are                                        precipitated out and, due to                                               processes like the movement of superheated water and gasses through the rock, different minerals are precipitated at different location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minerals such as tin, silver, gold, copper and even diamonds can be found in volcanic rock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etallic minerals mined around the world, particularly copper, gold, silver, lead and zinc are associated with rocks found deep below extinct volcano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 gasses escaping through vents of active volcanoes also bring minerals to the surface, notably sulphur, which collects around the vents as it condenses and solidif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s collect the sulphur and sell it. </a:t>
            </a:r>
            <a:endParaRPr b="0" lang="en-US" sz="2400" spc="-1" strike="noStrike">
              <a:solidFill>
                <a:srgbClr val="006699"/>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170" name="" descr=""/>
          <p:cNvPicPr/>
          <p:nvPr/>
        </p:nvPicPr>
        <p:blipFill>
          <a:blip r:embed="rId7"/>
          <a:stretch/>
        </p:blipFill>
        <p:spPr>
          <a:xfrm>
            <a:off x="5835600" y="44280"/>
            <a:ext cx="3200400" cy="2316240"/>
          </a:xfrm>
          <a:prstGeom prst="rect">
            <a:avLst/>
          </a:prstGeom>
          <a:ln w="0">
            <a:noFill/>
          </a:ln>
        </p:spPr>
      </p:pic>
      <p:sp>
        <p:nvSpPr>
          <p:cNvPr id="4" name="PlaceHolder 3"/>
          <p:cNvSpPr>
            <a:spLocks noGrp="1"/>
          </p:cNvSpPr>
          <p:nvPr>
            <p:ph type="sldNum" idx="1"/>
          </p:nvPr>
        </p:nvSpPr>
        <p:spPr/>
        <p:txBody>
          <a:bodyPr/>
          <a:p>
            <a:fld id="{6FBA613D-43DD-45E3-90A6-F3622F57A5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eothermal energy means heat energy from the earth.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unusual to use the heat directly, by building your house on top of a steam vent for example, because it's unpredictable, dangerous and mess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eat from underground steam is used to drive turbines and produce electricity, or to heat water supplies that are then used to provide household heating and hot wat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team doesn't naturally occur it is possible to drill several deep holes into very hot rocks, pump cool water down one hole and extract steam from another hole close b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6238562-3E0C-41F8-9507-4F4E86433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4"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such as Iceland make extensive use of geothermal power, with approximately two thirds of Iceland's electricity coming from steam powered turbin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ew Zealand and to a lesser extent, Japan, also make effective use of geothermal energ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celand has over 200 volcanoes and 800 hot springs</a:t>
            </a:r>
            <a:endParaRPr b="0" lang="en-US" sz="2400" spc="-1" strike="noStrike">
              <a:solidFill>
                <a:srgbClr val="006699"/>
              </a:solidFill>
              <a:latin typeface="Comic Sans MS"/>
            </a:endParaRPr>
          </a:p>
        </p:txBody>
      </p:sp>
      <p:sp>
        <p:nvSpPr>
          <p:cNvPr id="175" name="PlaceHolder 3"/>
          <p:cNvSpPr>
            <a:spLocks noGrp="1"/>
          </p:cNvSpPr>
          <p:nvPr>
            <p:ph/>
          </p:nvPr>
        </p:nvSpPr>
        <p:spPr>
          <a:xfrm>
            <a:off x="4284360" y="2852280"/>
            <a:ext cx="4608360" cy="37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6% of Iceland’s electricity comes from Geothermal Power.</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ykjavik is said to be “the most unpolluted capital in Europ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true - the city is absolutely pristine. The air is crystal clear.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eothermal electricity generation has a lot to do with this.</a:t>
            </a:r>
            <a:endParaRPr b="0" lang="en-US" sz="2400" spc="-1" strike="noStrike">
              <a:solidFill>
                <a:srgbClr val="006699"/>
              </a:solidFill>
              <a:latin typeface="Comic Sans MS"/>
            </a:endParaRPr>
          </a:p>
        </p:txBody>
      </p:sp>
      <p:pic>
        <p:nvPicPr>
          <p:cNvPr id="176" name="" descr=""/>
          <p:cNvPicPr/>
          <p:nvPr/>
        </p:nvPicPr>
        <p:blipFill>
          <a:blip r:embed="rId8"/>
          <a:stretch/>
        </p:blipFill>
        <p:spPr>
          <a:xfrm>
            <a:off x="4859280" y="765000"/>
            <a:ext cx="3389400" cy="2017800"/>
          </a:xfrm>
          <a:prstGeom prst="rect">
            <a:avLst/>
          </a:prstGeom>
          <a:ln w="0">
            <a:noFill/>
          </a:ln>
        </p:spPr>
      </p:pic>
      <p:sp>
        <p:nvSpPr>
          <p:cNvPr id="5" name="PlaceHolder 4"/>
          <p:cNvSpPr>
            <a:spLocks noGrp="1"/>
          </p:cNvSpPr>
          <p:nvPr>
            <p:ph type="sldNum" idx="1"/>
          </p:nvPr>
        </p:nvSpPr>
        <p:spPr/>
        <p:txBody>
          <a:bodyPr/>
          <a:p>
            <a:fld id="{2AD38D5B-AE43-45A5-BADA-3ADE692F32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uses of Geothermal power in Iceland</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42148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lso used for recreational purpos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laa Lonio - The Blue Lagoon. In the middle of this huge lava field sits this pool of seawater naturally heated by the geothermal activity below the surface</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4572000" y="1197000"/>
            <a:ext cx="4191120" cy="3143160"/>
          </a:xfrm>
          <a:prstGeom prst="rect">
            <a:avLst/>
          </a:prstGeom>
          <a:ln w="0">
            <a:noFill/>
          </a:ln>
        </p:spPr>
      </p:pic>
      <p:sp>
        <p:nvSpPr>
          <p:cNvPr id="4" name="PlaceHolder 3"/>
          <p:cNvSpPr>
            <a:spLocks noGrp="1"/>
          </p:cNvSpPr>
          <p:nvPr>
            <p:ph type="sldNum" idx="1"/>
          </p:nvPr>
        </p:nvSpPr>
        <p:spPr/>
        <p:txBody>
          <a:bodyPr/>
          <a:p>
            <a:fld id="{BE4E7FC3-8C68-4BC5-A058-9BE10A4209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560" y="404640"/>
            <a:ext cx="8497800" cy="6120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utheast of Reykjavik,                                              the town of Hveragerdi                                        serves as a geothermal                                               farming centre for the                                           capital.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uffs of steam coming                                                      out of the ground all                                                       over the pl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were greenhouses everywhere, often surrounded by steaming cracks in the grou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extreme climate of Iceland is actually able to produce much in the way of tropical fruits and vegetables with the help of geothermal steam. </a:t>
            </a:r>
            <a:endParaRPr b="0" lang="en-US" sz="2800" spc="-1" strike="noStrike">
              <a:solidFill>
                <a:srgbClr val="006699"/>
              </a:solidFill>
              <a:latin typeface="Comic Sans MS"/>
            </a:endParaRPr>
          </a:p>
        </p:txBody>
      </p:sp>
      <p:pic>
        <p:nvPicPr>
          <p:cNvPr id="181" name="" descr=""/>
          <p:cNvPicPr/>
          <p:nvPr/>
        </p:nvPicPr>
        <p:blipFill>
          <a:blip r:embed="rId5"/>
          <a:stretch/>
        </p:blipFill>
        <p:spPr>
          <a:xfrm>
            <a:off x="4859280" y="404640"/>
            <a:ext cx="4092480" cy="3063960"/>
          </a:xfrm>
          <a:prstGeom prst="rect">
            <a:avLst/>
          </a:prstGeom>
          <a:ln w="0">
            <a:noFill/>
          </a:ln>
        </p:spPr>
      </p:pic>
      <p:sp>
        <p:nvSpPr>
          <p:cNvPr id="3" name="PlaceHolder 2"/>
          <p:cNvSpPr>
            <a:spLocks noGrp="1"/>
          </p:cNvSpPr>
          <p:nvPr>
            <p:ph type="sldNum" idx="1"/>
          </p:nvPr>
        </p:nvSpPr>
        <p:spPr/>
        <p:txBody>
          <a:bodyPr/>
          <a:p>
            <a:fld id="{B02E108C-A4CF-4484-A79C-C2B91E531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ertile Soils</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olcanic rocks are rich in minerals, but when the rocks are fresh the minerals are not available to pla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ocks need thousands of years to become weathered and broken down before they form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y do become soils though, they form some of the richest ones on the plane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ples area, which includes Mount Vesuvius, has such rich soils thanks to two large eruptions 35,000 and 12000 years ago. Both eruptions produced very thick deposits of ash and broken rocks which have weathered to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day, the area is intensively cultivated and produces grapes, vegetables, orange and lemon trees, herbs, flowers and has become a major tomato growing reg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4443DA5-D41E-4845-ABB7-59D26EBCBC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0:40:41Z</dcterms:created>
  <dc:creator>Lindy</dc:creator>
  <dc:description/>
  <dc:language>en-US</dc:language>
  <cp:lastModifiedBy>Lindy</cp:lastModifiedBy>
  <dcterms:modified xsi:type="dcterms:W3CDTF">2008-12-19T16:20:30Z</dcterms:modified>
  <cp:revision>4</cp:revision>
  <dc:subject/>
  <dc:title>What is like living near a volcan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